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896-0A21-499F-937E-D60591E8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C40-1366-4C8F-A9BF-29A1DBC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E5E-7E5F-4433-81B0-8E42AFAA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08A-0174-460E-B4F7-A0F3DF33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4A9-691E-4603-A184-61159EF5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CAA-12DD-425A-AFD5-14490F3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C70-E9F6-4D8E-94AB-954B3D53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1CB-39A4-4AD8-BF50-74942C74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335-72B9-49EE-A0EA-E6EC10A0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A68-9333-4251-A716-AA1A90CD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340-246C-49F3-9BC9-A1FCAF2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C02-85A2-42E4-AB03-BF7F409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6BDE-07CE-46F5-B4AB-D4BDBA8D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25:52Z</dcterms:created>
  <dc:creator>abeason</dc:creator>
  <dc:description/>
  <dc:language>en-US</dc:language>
  <cp:lastModifiedBy>abeason</cp:lastModifiedBy>
  <dcterms:modified xsi:type="dcterms:W3CDTF">2008-12-18T17:25:55Z</dcterms:modified>
  <cp:revision>1</cp:revision>
  <dc:subject/>
  <dc:title>Slide 1</dc:title>
</cp:coreProperties>
</file>